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E4D-7DD9-4FBE-90EF-36BD6504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35A-ECA8-4B90-8191-6D6DF756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FE4-73F2-4D19-93E0-E048594A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B8D-F813-475A-8815-275E66CE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8FF-768B-4C8F-8C6C-DE0FCAA6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6DC-00BB-4436-B632-D429F778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754-8777-416C-97E3-97250BF6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609-752B-46D9-AE6A-DFEA4EBB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55C-942E-44BE-9B8E-7A174D31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627-47FC-44CA-80D3-B0934A64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34A-392E-4856-AA39-1D7F5582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F60-1B62-4A31-A0F4-222998F8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7F17-AABB-4AF6-8FE3-FE0B8908B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7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93120" y="208080"/>
            <a:ext cx="8316720" cy="6102000"/>
            <a:chOff x="393120" y="208080"/>
            <a:chExt cx="8316720" cy="6102000"/>
          </a:xfrm>
        </p:grpSpPr>
        <p:pic>
          <p:nvPicPr>
            <p:cNvPr id="143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4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1680" y="4724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312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8120" y="22096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04760" y="2209680"/>
              <a:ext cx="11430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2320" y="20574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477120" y="205704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7120" y="220968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140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694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38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982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92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971800" y="220932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971800" y="22093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047760" y="22856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200400" y="220932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047760" y="2209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733920" y="220968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809520" y="2209320"/>
              <a:ext cx="17528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80024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800600" y="22096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638680" y="2209680"/>
              <a:ext cx="76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15000" y="22093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71500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5714640" y="2209680"/>
              <a:ext cx="152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867280" y="2209680"/>
              <a:ext cx="609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1440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4120" y="22096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4300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7920" y="27432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560" y="2438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7440" y="33368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9720" y="19051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67240" y="28796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572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4320" y="2346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56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6440" y="25146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9960" y="2514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6744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34120" y="28036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3240" y="1889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5120" y="24224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3392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7-2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the scene in Slides # 1 o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the instructors guidelines map this scene using  exterior mapping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upon the technique and landmarks you use, your response may or may not exactly match th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concentrate on using the appropriate rules, not using inappropriate landmarks and taking all necessary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1 - Practical Sce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4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581280" y="5410080"/>
              <a:ext cx="381240" cy="38124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04200" y="208080"/>
            <a:ext cx="8481600" cy="6426000"/>
            <a:chOff x="304200" y="208080"/>
            <a:chExt cx="8481600" cy="6426000"/>
          </a:xfrm>
        </p:grpSpPr>
        <p:pic>
          <p:nvPicPr>
            <p:cNvPr id="75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81280" y="5334120"/>
              <a:ext cx="381240" cy="38088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057040" y="4266720"/>
              <a:ext cx="16765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971440" y="3124080"/>
              <a:ext cx="76212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276720" y="3047760"/>
              <a:ext cx="4572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33920" y="28195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733920" y="3581280"/>
              <a:ext cx="1828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733920" y="327672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733920" y="2895120"/>
              <a:ext cx="190476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733920" y="3352320"/>
              <a:ext cx="42670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9000" y="327672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4120" y="23922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7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28520" y="30780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59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9600" y="259092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4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73040" y="307800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3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70800" y="338292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44640" y="320040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’1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4280" y="4419720"/>
              <a:ext cx="4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3 - Practical Scen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11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9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4:38:02Z</dcterms:created>
  <dc:creator>Ross M. Gardner</dc:creator>
  <dc:description/>
  <dc:language>en-US</dc:language>
  <cp:lastModifiedBy>amcleary</cp:lastModifiedBy>
  <cp:lastPrinted>2003-12-11T16:22:17Z</cp:lastPrinted>
  <dcterms:modified xsi:type="dcterms:W3CDTF">2004-07-28T16:40:54Z</dcterms:modified>
  <cp:revision>11</cp:revision>
  <dc:subject/>
  <dc:title>No Slide Title</dc:title>
</cp:coreProperties>
</file>