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8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.wmf" ContentType="image/x-wmf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6197-A3C4-4C0F-8A13-5AB9DD616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4659-02FF-4341-8327-1C44F367D91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7D64-3E49-4628-815B-BBD332B7484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BD6E-EB59-4B67-8D42-9C66C902327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5FD4-B7D7-4C33-81DC-36A45A58293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890D-FB6D-47B6-A8F6-E0CA1C256E2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A7F4-16BF-4C79-A80B-75CBB60A879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3BBB-E63D-460A-8F8B-16E5A85DFCA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A6BE-DB79-4688-87A3-5E5B8BC032E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73E2-3539-4152-857C-59D6107EEA0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6329-C033-4452-AAF2-757AD6AABD2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3249-782B-4247-B26B-35B5D213341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1A6D-F9B7-460A-8B15-EB0C0AFA5C0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EC40-E752-4B53-A30A-40F3D7059A3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E06C-CE33-4A8F-B62E-2F031E10C81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645A-A570-4CD9-B972-821C8F3D274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A897-A5E9-4FB9-B6D0-518B7FE419C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F2C7-C223-4802-8488-0DA17D559DE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6256-CB2A-4E96-BBE9-5FB98B39FB6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2D03-4136-4DCE-B23B-1A648F287E7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B4B5-2062-4DEE-AE04-A6BEA969ADC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F801-4D11-4926-996B-9839077F979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4D40-9222-49F8-8F9C-8699F643BF0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E854-C472-440A-8FE1-454F56674AB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959B-EB1A-44D5-A4CC-B506CDE0A49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97A2-B560-494E-9ADF-3E208A2F0E5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D7D-2CBB-47A8-AF87-5FCEE262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B5C-830C-45D9-9E9B-10B56235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6D8-056F-430A-830C-72406596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A14-31F5-489B-A5CA-5AB80A0D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A0E4-D1F7-499B-80B5-0E986FF4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4C3E-92A2-4291-9946-D5964AB9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424A-6C53-4C72-A61F-7748671F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2CE0-40F6-4AEB-ABE7-291A3DF1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8140-9647-4BFC-9877-CA7CA25A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DAB7-A263-42FD-9391-B03B2505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EB14-5F61-49C1-88B4-BCBB1B2A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59C-26C5-4D24-B8F8-C9C1B191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18CB-1337-47DD-A33B-26053BE2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0193-97DB-4F59-A1D7-8665466B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44AF-16DA-4025-982F-DC4FE03E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B94F-500E-4ABD-BB5A-E45C22D6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38AA-7597-4403-82B2-06622779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E06-C808-4EE8-95E4-BE77B579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B40-4178-41E8-A292-A890C131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EFD-CBBA-4D90-BF84-BAF58522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434-F737-473D-ACBC-2216A11D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0C8-975C-45A6-9205-7C21E7C6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D1D-5C52-4544-AB09-343F09AC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5D2-2C1E-40F1-B7E9-C1BED469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2000"/>
            <a:ext cx="190512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8240"/>
            <a:ext cx="289548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5C6F-BE84-48F4-91FD-E85C31A94E2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3"/>
          <p:cNvGrpSpPr/>
          <p:nvPr/>
        </p:nvGrpSpPr>
        <p:grpSpPr>
          <a:xfrm>
            <a:off x="228600" y="1981080"/>
            <a:ext cx="7391520" cy="320760"/>
            <a:chOff x="228600" y="1981080"/>
            <a:chExt cx="7391520" cy="320760"/>
          </a:xfrm>
        </p:grpSpPr>
        <p:sp>
          <p:nvSpPr>
            <p:cNvPr id="10" name="AutoShape 11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228600" y="1981080"/>
              <a:ext cx="395280" cy="3207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9" h="202">
                  <a:moveTo>
                    <a:pt x="124" y="0"/>
                  </a:moveTo>
                  <a:lnTo>
                    <a:pt x="112" y="1"/>
                  </a:lnTo>
                  <a:lnTo>
                    <a:pt x="99" y="2"/>
                  </a:lnTo>
                  <a:lnTo>
                    <a:pt x="87" y="5"/>
                  </a:lnTo>
                  <a:lnTo>
                    <a:pt x="76" y="8"/>
                  </a:lnTo>
                  <a:lnTo>
                    <a:pt x="65" y="12"/>
                  </a:lnTo>
                  <a:lnTo>
                    <a:pt x="55" y="17"/>
                  </a:lnTo>
                  <a:lnTo>
                    <a:pt x="45" y="23"/>
                  </a:lnTo>
                  <a:lnTo>
                    <a:pt x="37" y="29"/>
                  </a:lnTo>
                  <a:lnTo>
                    <a:pt x="29" y="37"/>
                  </a:lnTo>
                  <a:lnTo>
                    <a:pt x="22" y="44"/>
                  </a:lnTo>
                  <a:lnTo>
                    <a:pt x="15" y="52"/>
                  </a:lnTo>
                  <a:lnTo>
                    <a:pt x="10" y="61"/>
                  </a:lnTo>
                  <a:lnTo>
                    <a:pt x="6" y="70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10"/>
                  </a:lnTo>
                  <a:lnTo>
                    <a:pt x="2" y="120"/>
                  </a:lnTo>
                  <a:lnTo>
                    <a:pt x="6" y="130"/>
                  </a:lnTo>
                  <a:lnTo>
                    <a:pt x="10" y="139"/>
                  </a:lnTo>
                  <a:lnTo>
                    <a:pt x="15" y="148"/>
                  </a:lnTo>
                  <a:lnTo>
                    <a:pt x="22" y="157"/>
                  </a:lnTo>
                  <a:lnTo>
                    <a:pt x="29" y="165"/>
                  </a:lnTo>
                  <a:lnTo>
                    <a:pt x="37" y="172"/>
                  </a:lnTo>
                  <a:lnTo>
                    <a:pt x="45" y="178"/>
                  </a:lnTo>
                  <a:lnTo>
                    <a:pt x="55" y="184"/>
                  </a:lnTo>
                  <a:lnTo>
                    <a:pt x="65" y="189"/>
                  </a:lnTo>
                  <a:lnTo>
                    <a:pt x="76" y="193"/>
                  </a:lnTo>
                  <a:lnTo>
                    <a:pt x="87" y="197"/>
                  </a:lnTo>
                  <a:lnTo>
                    <a:pt x="99" y="199"/>
                  </a:lnTo>
                  <a:lnTo>
                    <a:pt x="112" y="200"/>
                  </a:lnTo>
                  <a:lnTo>
                    <a:pt x="124" y="201"/>
                  </a:lnTo>
                  <a:lnTo>
                    <a:pt x="248" y="201"/>
                  </a:lnTo>
                  <a:lnTo>
                    <a:pt x="248" y="0"/>
                  </a:lnTo>
                  <a:lnTo>
                    <a:pt x="124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3632040" y="4889520"/>
            <a:ext cx="4878720" cy="320760"/>
            <a:chOff x="3632040" y="4889520"/>
            <a:chExt cx="4878720" cy="320760"/>
          </a:xfrm>
        </p:grpSpPr>
        <p:sp>
          <p:nvSpPr>
            <p:cNvPr id="51" name="AutoShape 5"/>
            <p:cNvSpPr/>
            <p:nvPr/>
          </p:nvSpPr>
          <p:spPr>
            <a:xfrm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48680" y="4889520"/>
              <a:ext cx="262080" cy="3207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65" h="202">
                  <a:moveTo>
                    <a:pt x="82" y="0"/>
                  </a:moveTo>
                  <a:lnTo>
                    <a:pt x="91" y="1"/>
                  </a:lnTo>
                  <a:lnTo>
                    <a:pt x="98" y="2"/>
                  </a:lnTo>
                  <a:lnTo>
                    <a:pt x="106" y="5"/>
                  </a:lnTo>
                  <a:lnTo>
                    <a:pt x="114" y="8"/>
                  </a:lnTo>
                  <a:lnTo>
                    <a:pt x="121" y="12"/>
                  </a:lnTo>
                  <a:lnTo>
                    <a:pt x="128" y="17"/>
                  </a:lnTo>
                  <a:lnTo>
                    <a:pt x="134" y="23"/>
                  </a:lnTo>
                  <a:lnTo>
                    <a:pt x="140" y="29"/>
                  </a:lnTo>
                  <a:lnTo>
                    <a:pt x="145" y="37"/>
                  </a:lnTo>
                  <a:lnTo>
                    <a:pt x="150" y="44"/>
                  </a:lnTo>
                  <a:lnTo>
                    <a:pt x="154" y="52"/>
                  </a:lnTo>
                  <a:lnTo>
                    <a:pt x="158" y="61"/>
                  </a:lnTo>
                  <a:lnTo>
                    <a:pt x="160" y="70"/>
                  </a:lnTo>
                  <a:lnTo>
                    <a:pt x="162" y="80"/>
                  </a:lnTo>
                  <a:lnTo>
                    <a:pt x="163" y="90"/>
                  </a:lnTo>
                  <a:lnTo>
                    <a:pt x="164" y="100"/>
                  </a:lnTo>
                  <a:lnTo>
                    <a:pt x="163" y="110"/>
                  </a:lnTo>
                  <a:lnTo>
                    <a:pt x="162" y="120"/>
                  </a:lnTo>
                  <a:lnTo>
                    <a:pt x="160" y="130"/>
                  </a:lnTo>
                  <a:lnTo>
                    <a:pt x="158" y="139"/>
                  </a:lnTo>
                  <a:lnTo>
                    <a:pt x="154" y="148"/>
                  </a:lnTo>
                  <a:lnTo>
                    <a:pt x="150" y="157"/>
                  </a:lnTo>
                  <a:lnTo>
                    <a:pt x="145" y="165"/>
                  </a:lnTo>
                  <a:lnTo>
                    <a:pt x="140" y="172"/>
                  </a:lnTo>
                  <a:lnTo>
                    <a:pt x="134" y="178"/>
                  </a:lnTo>
                  <a:lnTo>
                    <a:pt x="128" y="184"/>
                  </a:lnTo>
                  <a:lnTo>
                    <a:pt x="121" y="189"/>
                  </a:lnTo>
                  <a:lnTo>
                    <a:pt x="114" y="193"/>
                  </a:lnTo>
                  <a:lnTo>
                    <a:pt x="106" y="197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2" y="201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82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2000"/>
            <a:ext cx="190512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2000"/>
            <a:ext cx="327996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9040"/>
            <a:ext cx="587520" cy="4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FFBA-3085-4DEC-B24F-143BE72E4C8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060720" cy="3668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C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rime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P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revention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T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hrough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E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nvironmental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D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esign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16320" y="3573360"/>
            <a:ext cx="317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Chapter 2 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Crime Preventi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Theory &amp; Practi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Hierarchy of Space 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(Spatial Hierarch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design of a residential environment should help identify ownership by delineating private space from public space through real or symbolic boundar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patial hierarchy can be achieved by creating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real boundaries through fenci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symbolic boundaries such as landscaping or differing the grade or paving stone colours of private space from that of public spac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7432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erritoriality/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Defensible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69706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Design should help foster people’s vigilance &amp; ownership over their homes, public space, &amp; the neighbourhood as a whol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Territoriality in public &amp; semi-public areas can be enhanced b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providing a clear definition of “controlled” spac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designing clearly-marked transitional zones for people moving from public to private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ttracting local residents to use public &amp; semi-private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Providing common activity areas helps to stimulate social interaction, which may lead to greater social cohesion &amp; informal social control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095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erritoriality/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Defensible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69706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7061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Activity Suppo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design of public space should encourage the intended use of this space by residents and legitimate us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is can be achieved by designing public or semi-public spaces to include parks, playgrounds, benches, lighting, or promenade-style sidewalk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tivity support is important for increasing the surveillance opportunities of &amp; fostering territoriality among local resid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30243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Ima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Ensuring that a building or area is clean, well-maintained, &amp; graffiti-free prevents a perception of neglect &amp; vulnerability by potential offende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It can also instil in residents a greater pride in their neighbourhood, thereby promoting community ownership &amp; territor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35240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PTED Strategies, Concepts, Princip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Location/Surround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design or location decision should take into consideration the surrounding environment &amp; user group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potential negative impact on a site by the surrounding environment should be considered, primarily by avoiding the use of the site by incompatible groups (e.g., don’t locate tavern or seniors home next to high schoo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ond Generation CPT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ritics charge that CPTED proponents give too much weight to the role of the environment in influencing crime &amp; criminal behavior; social &amp; demographic variables are critical in maximizing efficacy of safe desig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CA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Gen CPTED focuses on building local social capital by fostering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local social cohe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onnectivity among neighborhood resi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unique local community cultu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social stabilizers” that promote all of the above while minimizing destabilizing activities that can promote crime &amp; disorder (e.g., bars, pawn shops, et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on CPTED Strategies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maximize residents’ opportunities for surveillance of dwellings &amp; public spa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learly define the boundaries between public &amp; private spac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encourage a sense of ownership, responsibility &amp; territoriality among resi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limit the number of access &amp; exit points &amp; routes through a neighbourhoo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provide adequate interior &amp; exterior lighting, stressing bright white ligh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void any building design or ground-level planting that may provide concealmen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keep the surrounding area clean, well-maintained, graffiti-free &amp; attractiv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onsider the security implications of a site before locating ther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stress a partnership approach to CP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incorporate CPTED into a comprehensive crime prevention program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123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PTED Case Studie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348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PTED Overvi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ntecede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PTED concepts/strate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Second generation CP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ommon CPTED Strate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ase stud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3139920" y="2362320"/>
            <a:ext cx="3548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597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an Harrison Community Complex (Toronto, ON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4190760" cy="2801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4800600" y="3065400"/>
            <a:ext cx="4114800" cy="27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457200" y="2514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003366"/>
                </a:solidFill>
                <a:latin typeface="Arial Narrow"/>
              </a:rPr>
              <a:t>Befor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876920" y="2514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003366"/>
                </a:solidFill>
                <a:latin typeface="Arial Narrow"/>
              </a:rPr>
              <a:t>After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lawney (Mississuaga, Ontario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2335320" cy="3733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3733920" y="2971800"/>
            <a:ext cx="4495680" cy="3013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11430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 Narrow"/>
              </a:rPr>
              <a:t>Modular Lotting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8006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 Narrow"/>
              </a:rPr>
              <a:t>Trelawne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mplain Place (Vancou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219320" y="2428920"/>
            <a:ext cx="6949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mplain Place (Vancou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PTED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CPTED attempts to prevent crime in two basic way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1)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3300"/>
                </a:solidFill>
                <a:latin typeface="Arial"/>
              </a:rPr>
              <a:t>directly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to reduce crime by restricting access to property &amp; removing criminal opportunities. (e.g., maximizing residents’ opportunities for surveillance, restricting access to property, increasing security, removing valuables, etc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.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2)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3300"/>
                </a:solidFill>
                <a:latin typeface="Arial"/>
              </a:rPr>
              <a:t>indirectly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to reduce crime, fear, &amp; related problems by influencing the behaviour of residents &amp; other legitimate users of that space.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tece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Jane Jacob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lower neighborhood crime rates are a function of design that provides increased (natural) surveillance opportunities to legitimate residents &amp; pedestri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hus, safe design maximizes strategies that draw “eyes &amp; ears” on the stre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tece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Oscar Newman’s Defensible Space theor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physical environment could be designed to release the latent sense of “territoriality” among inhabi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his would translate into residents’ responsibility for preserving a safe, clean, &amp; well-maintained liv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PTED Concepts/Strateg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Natural Surveill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ccess Contro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Target Hard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Spatial Hierarc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Territoriality/Defensibl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ctivity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Location/Surround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Natural 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Surveilla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9786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afe design should maximize the ability of users to spot suspicious people &amp; activities during their daily activit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Natural surveillance opportunities can be enhanced by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orienting windows to entry ways, vulnerable points or public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designing landscapes that allow unobstructed views of surrounding are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improving visibility with lighting, transparent building materials, or white paint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voiding the creation of entrapment are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Artificial surveillance (e.g., CCT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Intentional surveillance (security guards, citizen patrol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5" descr="http://www.lancastercsc.org/images/Natural_Surveillance_House_Bad.gif"/>
          <p:cNvPicPr/>
          <p:nvPr/>
        </p:nvPicPr>
        <p:blipFill>
          <a:blip r:embed="rId1"/>
          <a:stretch/>
        </p:blipFill>
        <p:spPr>
          <a:xfrm>
            <a:off x="4427640" y="333360"/>
            <a:ext cx="42480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980640"/>
            <a:ext cx="8001000" cy="9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Access Contro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54524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afe design should control access to a site, limiting unnecessary traffic &amp; deterring offenders from ente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cess control sends a message to potential offenders that they are at greater risk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cess control can be achieved by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ensuring entrances are clearly defined, well lit, &amp; overlooked by window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installing security hardw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designing streets to prevent a quick &amp; easy entry &amp; exi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6" descr="https://encrypted-tbn3.gstatic.com/images?q=tbn:ANd9GcQq0ClqvvVRTk2Ay0JEi2jbe72F1V5z1IhOEwAUy29m4WbyBGdYsAbRnTu-"/>
          <p:cNvPicPr/>
          <p:nvPr/>
        </p:nvPicPr>
        <p:blipFill>
          <a:blip r:embed="rId1"/>
          <a:stretch/>
        </p:blipFill>
        <p:spPr>
          <a:xfrm>
            <a:off x="5364000" y="4762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arget Harden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use of security devices &amp; hardware to lessen the vulnerability of potential targets to crime &amp; nuisanc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argets can be made more impenetrable to offenders through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security hardwar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fortified doorfram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gates &amp; fenc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http://i434.photobucket.com/albums/qq66/TKPNPodcast/afe8.jpg"/>
          <p:cNvPicPr/>
          <p:nvPr/>
        </p:nvPicPr>
        <p:blipFill>
          <a:blip r:embed="rId1"/>
          <a:stretch/>
        </p:blipFill>
        <p:spPr>
          <a:xfrm>
            <a:off x="5580000" y="2602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4:02:49Z</dcterms:created>
  <dc:creator>Steve Schneider</dc:creator>
  <dc:description/>
  <dc:language>en-US</dc:language>
  <cp:lastModifiedBy>Lindens</cp:lastModifiedBy>
  <dcterms:modified xsi:type="dcterms:W3CDTF">2014-04-28T14:24:49Z</dcterms:modified>
  <cp:revision>46</cp:revision>
  <dc:subject/>
  <dc:title>Researching Organized Crime for Policy Purposes: Challenges, Critiques, and Recommendations</dc:title>
</cp:coreProperties>
</file>